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195875" cy="431958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3887640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159640" y="23193720"/>
            <a:ext cx="3887640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080240" y="10107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9640" y="23193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2080240" y="23193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1251792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303960" y="10107720"/>
            <a:ext cx="1251792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447920" y="10107720"/>
            <a:ext cx="1251792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59640" y="23193720"/>
            <a:ext cx="1251792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5303960" y="23193720"/>
            <a:ext cx="1251792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28447920" y="23193720"/>
            <a:ext cx="1251792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159640" y="10107720"/>
            <a:ext cx="38876400" cy="25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38876400" cy="25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18971640" cy="25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2080240" y="10107720"/>
            <a:ext cx="18971640" cy="25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159640" y="1723320"/>
            <a:ext cx="38876400" cy="334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0240" y="10107720"/>
            <a:ext cx="18971640" cy="25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159640" y="23193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18971640" cy="25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2080240" y="10107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080240" y="23193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59640" y="1723320"/>
            <a:ext cx="38876400" cy="72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59640" y="10107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2080240" y="10107720"/>
            <a:ext cx="1897164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59640" y="23193720"/>
            <a:ext cx="38876400" cy="119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7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7.png"/><Relationship Id="rId23" Type="http://schemas.openxmlformats.org/officeDocument/2006/relationships/image" Target="../media/image12.png"/><Relationship Id="rId24" Type="http://schemas.openxmlformats.org/officeDocument/2006/relationships/image" Target="../media/image14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jpeg"/><Relationship Id="rId30" Type="http://schemas.openxmlformats.org/officeDocument/2006/relationships/image" Target="../media/image20.png"/><Relationship Id="rId31" Type="http://schemas.openxmlformats.org/officeDocument/2006/relationships/image" Target="../media/image21.png"/><Relationship Id="rId32" Type="http://schemas.openxmlformats.org/officeDocument/2006/relationships/image" Target="../media/image22.png"/><Relationship Id="rId33" Type="http://schemas.openxmlformats.org/officeDocument/2006/relationships/image" Target="../media/image23.png"/><Relationship Id="rId34" Type="http://schemas.openxmlformats.org/officeDocument/2006/relationships/image" Target="../media/image24.png"/><Relationship Id="rId35" Type="http://schemas.openxmlformats.org/officeDocument/2006/relationships/image" Target="../media/image25.png"/><Relationship Id="rId36" Type="http://schemas.openxmlformats.org/officeDocument/2006/relationships/image" Target="../media/image26.png"/><Relationship Id="rId37" Type="http://schemas.openxmlformats.org/officeDocument/2006/relationships/image" Target="../media/image27.png"/><Relationship Id="rId38" Type="http://schemas.openxmlformats.org/officeDocument/2006/relationships/image" Target="../media/image28.png"/><Relationship Id="rId39" Type="http://schemas.openxmlformats.org/officeDocument/2006/relationships/image" Target="../media/image29.png"/><Relationship Id="rId40" Type="http://schemas.openxmlformats.org/officeDocument/2006/relationships/image" Target="../media/image30.png"/><Relationship Id="rId41" Type="http://schemas.openxmlformats.org/officeDocument/2006/relationships/image" Target="../media/image31.png"/><Relationship Id="rId4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533520" y="6248520"/>
            <a:ext cx="11691720" cy="11301120"/>
            <a:chOff x="533520" y="6248520"/>
            <a:chExt cx="11691720" cy="11301120"/>
          </a:xfrm>
        </p:grpSpPr>
        <p:sp>
          <p:nvSpPr>
            <p:cNvPr id="37" name=""/>
            <p:cNvSpPr/>
            <p:nvPr/>
          </p:nvSpPr>
          <p:spPr>
            <a:xfrm>
              <a:off x="533520" y="6248520"/>
              <a:ext cx="11691720" cy="10183680"/>
            </a:xfrm>
            <a:prstGeom prst="roundRect">
              <a:avLst>
                <a:gd name="adj" fmla="val 14"/>
              </a:avLst>
            </a:prstGeom>
            <a:solidFill>
              <a:srgbClr val="ffffcc"/>
            </a:solidFill>
            <a:ln w="73080">
              <a:solidFill>
                <a:srgbClr val="000080"/>
              </a:solidFill>
              <a:miter/>
            </a:ln>
            <a:effectLst>
              <a:outerShdw dist="646578" dir="2700000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42920" y="6908760"/>
              <a:ext cx="974196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1" lang="en-US" sz="6600" spc="-1" strike="noStrike">
                  <a:solidFill>
                    <a:srgbClr val="000080"/>
                  </a:solidFill>
                  <a:latin typeface="Charter"/>
                </a:rPr>
                <a:t>Problem </a:t>
              </a:r>
              <a:r>
                <a:rPr b="1" lang="en-US" sz="6000" spc="-1" strike="noStrike">
                  <a:solidFill>
                    <a:srgbClr val="000080"/>
                  </a:solidFill>
                  <a:latin typeface="Charter"/>
                </a:rPr>
                <a:t>and</a:t>
              </a:r>
              <a:r>
                <a:rPr b="1" lang="en-US" sz="6600" spc="-1" strike="noStrike">
                  <a:solidFill>
                    <a:srgbClr val="000080"/>
                  </a:solidFill>
                  <a:latin typeface="Charter"/>
                </a:rPr>
                <a:t> Motivation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22120" y="8771040"/>
              <a:ext cx="10362960" cy="87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105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Large amounts of data from different sensor types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are needed to obtain a realistic  3-D model  of 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large environment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105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105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The manner these sensor data are acquired is usuall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constrained (e.g. assume registered data)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105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105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How to interpret, combine and integrate the sensor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data when data acquisiton is flexibl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105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105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We fuse range and intensity data  to obtain geometric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GB" sz="3600" spc="-1" strike="noStrike">
                  <a:solidFill>
                    <a:srgbClr val="000080"/>
                  </a:solidFill>
                  <a:latin typeface="Arial"/>
                </a:rPr>
                <a:t>and photometric detail, respectively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2023920" y="20478600"/>
            <a:ext cx="92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85720" y="503280"/>
            <a:ext cx="42018120" cy="4770360"/>
            <a:chOff x="585720" y="503280"/>
            <a:chExt cx="42018120" cy="4770360"/>
          </a:xfrm>
        </p:grpSpPr>
        <p:sp>
          <p:nvSpPr>
            <p:cNvPr id="42" name=""/>
            <p:cNvSpPr/>
            <p:nvPr/>
          </p:nvSpPr>
          <p:spPr>
            <a:xfrm>
              <a:off x="585720" y="503280"/>
              <a:ext cx="42018120" cy="4770360"/>
            </a:xfrm>
            <a:prstGeom prst="roundRect">
              <a:avLst>
                <a:gd name="adj" fmla="val 32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ccff"/>
                </a:gs>
              </a:gsLst>
              <a:lin ang="5400000"/>
            </a:gradFill>
            <a:ln w="547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44800" y="619200"/>
              <a:ext cx="346442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1" lang="en-US" sz="10000" spc="-1" strike="noStrike">
                  <a:solidFill>
                    <a:srgbClr val="000080"/>
                  </a:solidFill>
                  <a:latin typeface="Charter"/>
                </a:rPr>
                <a:t>Sensor Fusion for 3­D Modeling of Indoor Environments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096920" y="1009800"/>
              <a:ext cx="3879720" cy="2692080"/>
            </a:xfrm>
            <a:prstGeom prst="rect">
              <a:avLst/>
            </a:prstGeom>
            <a:ln w="0">
              <a:noFill/>
            </a:ln>
            <a:effectLst>
              <a:outerShdw dist="155280" dir="2700000" blurRad="0" rotWithShape="0">
                <a:srgbClr val="808080"/>
              </a:outerShdw>
            </a:effectLst>
          </p:spPr>
        </p:pic>
        <p:sp>
          <p:nvSpPr>
            <p:cNvPr id="45" name=""/>
            <p:cNvSpPr/>
            <p:nvPr/>
          </p:nvSpPr>
          <p:spPr>
            <a:xfrm>
              <a:off x="7310520" y="2514600"/>
              <a:ext cx="276703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</a:tabLst>
              </a:pPr>
              <a:r>
                <a:rPr b="0" lang="en-GB" sz="7200" spc="-1" strike="noStrike">
                  <a:solidFill>
                    <a:srgbClr val="000080"/>
                  </a:solidFill>
                  <a:latin typeface="Arial"/>
                </a:rPr>
                <a:t>L.A. Torres-Méndez  and  G. Dudek,  Centre for Intelligent Machine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8139840" y="1009800"/>
              <a:ext cx="3879720" cy="2692080"/>
            </a:xfrm>
            <a:prstGeom prst="rect">
              <a:avLst/>
            </a:prstGeom>
            <a:ln w="0">
              <a:noFill/>
            </a:ln>
            <a:effectLst>
              <a:outerShdw dist="155280" dir="2700000" blurRad="0" rotWithShape="0">
                <a:srgbClr val="808080"/>
              </a:outerShdw>
            </a:effectLst>
          </p:spPr>
        </p:pic>
        <p:sp>
          <p:nvSpPr>
            <p:cNvPr id="47" name=""/>
            <p:cNvSpPr/>
            <p:nvPr/>
          </p:nvSpPr>
          <p:spPr>
            <a:xfrm>
              <a:off x="17449920" y="3886200"/>
              <a:ext cx="92296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0000ff"/>
                  </a:solidFill>
                  <a:latin typeface="Times New Roman"/>
                </a:rPr>
                <a:t>http://www.cim.mcgill.ca/~mrl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1529160" y="28020960"/>
            <a:ext cx="10866600" cy="13554000"/>
            <a:chOff x="31529160" y="28020960"/>
            <a:chExt cx="10866600" cy="13554000"/>
          </a:xfrm>
        </p:grpSpPr>
        <p:sp>
          <p:nvSpPr>
            <p:cNvPr id="49" name=""/>
            <p:cNvSpPr/>
            <p:nvPr/>
          </p:nvSpPr>
          <p:spPr>
            <a:xfrm>
              <a:off x="31529160" y="28020960"/>
              <a:ext cx="10866600" cy="13201560"/>
            </a:xfrm>
            <a:custGeom>
              <a:avLst/>
              <a:gdLst>
                <a:gd name="textAreaLeft" fmla="*/ 360 w 10866600"/>
                <a:gd name="textAreaRight" fmla="*/ 10866240 w 10866600"/>
                <a:gd name="textAreaTop" fmla="*/ 360 h 13201560"/>
                <a:gd name="textAreaBottom" fmla="*/ 13201200 h 13201560"/>
              </a:gdLst>
              <a:ahLst/>
              <a:rect l="textAreaLeft" t="textAreaTop" r="textAreaRight" b="textAreaBottom"/>
              <a:pathLst>
                <a:path w="21600" h="26241">
                  <a:moveTo>
                    <a:pt x="3" y="0"/>
                  </a:moveTo>
                  <a:arcTo wR="3" hR="3" stAng="16200000" swAng="-5400000"/>
                  <a:lnTo>
                    <a:pt x="0" y="26238"/>
                  </a:lnTo>
                  <a:arcTo wR="3" hR="3" stAng="10800000" swAng="-5400000"/>
                  <a:lnTo>
                    <a:pt x="21597" y="26241"/>
                  </a:lnTo>
                  <a:arcTo wR="3" hR="3" stAng="5400000" swAng="-5400000"/>
                  <a:lnTo>
                    <a:pt x="21600" y="3"/>
                  </a:lnTo>
                  <a:arcTo wR="3" hR="3" stAng="0" swAng="-5400000"/>
                  <a:close/>
                </a:path>
              </a:pathLst>
            </a:custGeom>
            <a:solidFill>
              <a:srgbClr val="ffffcc"/>
            </a:solidFill>
            <a:ln w="73080">
              <a:solidFill>
                <a:srgbClr val="000080"/>
              </a:solidFill>
              <a:miter/>
            </a:ln>
            <a:effectLst>
              <a:outerShdw dist="646578" dir="2700000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910400" y="28533600"/>
              <a:ext cx="59292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80"/>
                  </a:solidFill>
                  <a:latin typeface="Charter"/>
                </a:rPr>
                <a:t>Conclusions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880160" y="30143520"/>
              <a:ext cx="10077480" cy="68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44000"/>
                <a:buFont typeface="Symbol" charset="2"/>
                <a:buChar char="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54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Our approach is able to fuse two type of sensor  data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with a small amount of information.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66000"/>
                <a:buFont typeface="Symbol" charset="2"/>
                <a:buChar char="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66000"/>
                <a:buFont typeface="Symbol" charset="2"/>
                <a:buChar char="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Using PCA for detecting vertical lines, even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when these lines are noisy, improves the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matching for the registration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66000"/>
                <a:buFont typeface="Symbol" charset="2"/>
                <a:buChar char="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buClr>
                  <a:srgbClr val="993366"/>
                </a:buClr>
                <a:buSzPct val="66000"/>
                <a:buFont typeface="Symbol" charset="2"/>
                <a:buChar char="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Relationships between range and intensity are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extracted from the inherent characteristics in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indoor environments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05840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0" y="36423720"/>
              <a:ext cx="10240920" cy="51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1" lang="en-US" sz="2600" spc="-1" strike="noStrike">
                  <a:solidFill>
                    <a:srgbClr val="000080"/>
                  </a:solidFill>
                  <a:latin typeface="Arial"/>
                </a:rPr>
                <a:t>Referenc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[1] A. Fitzgibbon and A. Zisserman. "Automatic 3D model acquisition and generation of  new images from video sequences". Proceedings of European Signal Processing Conference, pp. 1261-1269, 199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[2] K.N. Kutulakos and S.M. Seitz. "A Theory of Space Carving". University of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Rochester CS Technical Report 692, May 199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[3] I. Stamos and P. Allen. "3D Model Construction using range and image data"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16000" indent="-216000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80"/>
                  </a:solidFill>
                  <a:latin typeface="Arial"/>
                </a:rPr>
                <a:t>Computer Vision and Pattern Recognition Conference,  2000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79600" y="17595720"/>
            <a:ext cx="11768040" cy="23769720"/>
            <a:chOff x="579600" y="17595720"/>
            <a:chExt cx="11768040" cy="23769720"/>
          </a:xfrm>
        </p:grpSpPr>
        <p:sp>
          <p:nvSpPr>
            <p:cNvPr id="54" name=""/>
            <p:cNvSpPr/>
            <p:nvPr/>
          </p:nvSpPr>
          <p:spPr>
            <a:xfrm>
              <a:off x="579600" y="17595720"/>
              <a:ext cx="11768040" cy="23769720"/>
            </a:xfrm>
            <a:custGeom>
              <a:avLst/>
              <a:gdLst/>
              <a:ahLst/>
              <a:rect l="l" t="t" r="r" b="b"/>
              <a:pathLst>
                <a:path w="21600" h="43628">
                  <a:moveTo>
                    <a:pt x="2" y="0"/>
                  </a:moveTo>
                  <a:arcTo wR="2" hR="2" stAng="16200000" swAng="-5400000"/>
                  <a:lnTo>
                    <a:pt x="0" y="43626"/>
                  </a:lnTo>
                  <a:arcTo wR="2" hR="2" stAng="10800000" swAng="-5400000"/>
                  <a:lnTo>
                    <a:pt x="21598" y="43628"/>
                  </a:lnTo>
                  <a:arcTo wR="2" hR="2" stAng="5400000" swAng="-5400000"/>
                  <a:lnTo>
                    <a:pt x="21600" y="2"/>
                  </a:lnTo>
                  <a:arcTo wR="2" hR="2" stAng="0" swAng="-5400000"/>
                  <a:close/>
                </a:path>
              </a:pathLst>
            </a:custGeom>
            <a:solidFill>
              <a:srgbClr val="ffffcc"/>
            </a:solidFill>
            <a:ln w="73080">
              <a:solidFill>
                <a:srgbClr val="000080"/>
              </a:solidFill>
              <a:miter/>
            </a:ln>
            <a:effectLst>
              <a:outerShdw dist="646578" dir="2700000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52480" y="28203480"/>
              <a:ext cx="10696680" cy="12479400"/>
              <a:chOff x="852480" y="28203480"/>
              <a:chExt cx="10696680" cy="124794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852480" y="28203480"/>
                <a:ext cx="10696680" cy="3167280"/>
                <a:chOff x="852480" y="28203480"/>
                <a:chExt cx="10696680" cy="3167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852480" y="28203480"/>
                  <a:ext cx="10696680" cy="14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marL="216000" indent="-216000">
                    <a:lnSpc>
                      <a:spcPct val="100000"/>
                    </a:lnSpc>
                    <a:buClr>
                      <a:srgbClr val="993366"/>
                    </a:buClr>
                    <a:buSzPct val="60000"/>
                    <a:buFont typeface="Marlett" charset="2"/>
                    <a:buChar char=""/>
                    <a:tabLst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5067360"/>
                      <a:tab algn="l" pos="5791320"/>
                      <a:tab algn="l" pos="6515280"/>
                      <a:tab algn="l" pos="7238880"/>
                      <a:tab algn="l" pos="7962840"/>
                      <a:tab algn="l" pos="8686800"/>
                      <a:tab algn="l" pos="9410760"/>
                      <a:tab algn="l" pos="10134720"/>
                    </a:tabLst>
                  </a:pPr>
                  <a:r>
                    <a:rPr b="0" lang="en-US" sz="4800" spc="-1" strike="noStrike">
                      <a:solidFill>
                        <a:srgbClr val="000080"/>
                      </a:solidFill>
                      <a:latin typeface="Arial"/>
                    </a:rPr>
                    <a:t> </a:t>
                  </a:r>
                  <a:r>
                    <a:rPr b="0" lang="en-US" sz="4800" spc="-1" strike="noStrike">
                      <a:solidFill>
                        <a:srgbClr val="000080"/>
                      </a:solidFill>
                      <a:latin typeface="Arial"/>
                    </a:rPr>
                    <a:t>S</a:t>
                  </a: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ensor fusion involves </a:t>
                  </a:r>
                  <a:r>
                    <a:rPr b="0" lang="en-US" sz="4400" spc="-1" strike="noStrike" u="sng">
                      <a:solidFill>
                        <a:srgbClr val="800000"/>
                      </a:solidFill>
                      <a:uFillTx/>
                      <a:latin typeface="Arial"/>
                    </a:rPr>
                    <a:t>registration</a:t>
                  </a: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 and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216000" indent="-216000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5067360"/>
                      <a:tab algn="l" pos="5791320"/>
                      <a:tab algn="l" pos="6515280"/>
                      <a:tab algn="l" pos="7238880"/>
                      <a:tab algn="l" pos="7962840"/>
                      <a:tab algn="l" pos="8686800"/>
                      <a:tab algn="l" pos="9410760"/>
                      <a:tab algn="l" pos="10134720"/>
                    </a:tabLst>
                  </a:pP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    </a:t>
                  </a:r>
                  <a:r>
                    <a:rPr b="0" lang="en-US" sz="4400" spc="-1" strike="noStrike" u="sng">
                      <a:solidFill>
                        <a:srgbClr val="800000"/>
                      </a:solidFill>
                      <a:uFillTx/>
                      <a:latin typeface="Arial"/>
                    </a:rPr>
                    <a:t>integration</a:t>
                  </a: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 of data, and must consider:  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43000" y="30151440"/>
                  <a:ext cx="103107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SzPct val="40000"/>
                    <a:buFont typeface="starbats" charset="2"/>
                    <a:buChar char=""/>
                    <a:tabLst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5067360"/>
                      <a:tab algn="l" pos="5791320"/>
                      <a:tab algn="l" pos="6515280"/>
                      <a:tab algn="l" pos="7238880"/>
                      <a:tab algn="l" pos="7962840"/>
                      <a:tab algn="l" pos="8686800"/>
                      <a:tab algn="l" pos="9410760"/>
                      <a:tab algn="l" pos="10134720"/>
                    </a:tabLst>
                  </a:pP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 </a:t>
                  </a:r>
                  <a:r>
                    <a:rPr b="0" lang="en-US" sz="3600" spc="-1" strike="noStrike">
                      <a:solidFill>
                        <a:srgbClr val="000080"/>
                      </a:solidFill>
                      <a:latin typeface="Arial"/>
                    </a:rPr>
                    <a:t>Sparse and non-uniform data from sensors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00"/>
                    </a:buClr>
                    <a:buSzPct val="50000"/>
                    <a:buFont typeface="starbats" charset="2"/>
                    <a:buChar char=""/>
                    <a:tabLst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5067360"/>
                      <a:tab algn="l" pos="5791320"/>
                      <a:tab algn="l" pos="6515280"/>
                      <a:tab algn="l" pos="7238880"/>
                      <a:tab algn="l" pos="7962840"/>
                      <a:tab algn="l" pos="8686800"/>
                      <a:tab algn="l" pos="9410760"/>
                      <a:tab algn="l" pos="10134720"/>
                    </a:tabLst>
                  </a:pPr>
                  <a:r>
                    <a:rPr b="0" lang="en-US" sz="3600" spc="-1" strike="noStrike">
                      <a:solidFill>
                        <a:srgbClr val="000080"/>
                      </a:solidFill>
                      <a:latin typeface="Arial"/>
                    </a:rPr>
                    <a:t> </a:t>
                  </a:r>
                  <a:r>
                    <a:rPr b="0" lang="en-US" sz="3600" spc="-1" strike="noStrike">
                      <a:solidFill>
                        <a:srgbClr val="000080"/>
                      </a:solidFill>
                      <a:latin typeface="Arial"/>
                    </a:rPr>
                    <a:t>Different resolutions in the unregistered data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1076400" y="31800960"/>
                <a:ext cx="10318680" cy="8881920"/>
                <a:chOff x="1076400" y="31800960"/>
                <a:chExt cx="10318680" cy="88819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125360" y="31800960"/>
                  <a:ext cx="4826160" cy="14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marL="216000" indent="-216000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80"/>
                      </a:solidFill>
                      <a:latin typeface="Arial"/>
                    </a:rPr>
                    <a:t>    </a:t>
                  </a:r>
                  <a:r>
                    <a:rPr b="1" lang="en-US" sz="4000" spc="-1" strike="noStrike">
                      <a:solidFill>
                        <a:srgbClr val="000080"/>
                      </a:solidFill>
                      <a:latin typeface="Arial"/>
                    </a:rPr>
                    <a:t>Registration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216000" indent="-216000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(</a:t>
                  </a:r>
                  <a:r>
                    <a:rPr b="0" lang="en-US" sz="3600" spc="-1" strike="noStrike">
                      <a:solidFill>
                        <a:srgbClr val="000080"/>
                      </a:solidFill>
                      <a:latin typeface="Arial"/>
                    </a:rPr>
                    <a:t>alignment of the data)</a:t>
                  </a: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 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76400" y="33759720"/>
                  <a:ext cx="5011560" cy="692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>
                  <a:off x="6769080" y="31800960"/>
                  <a:ext cx="4489560" cy="14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marL="216000" indent="-216000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80"/>
                      </a:solidFill>
                      <a:latin typeface="Arial"/>
                    </a:rPr>
                    <a:t>      </a:t>
                  </a:r>
                  <a:r>
                    <a:rPr b="1" lang="en-US" sz="4000" spc="-1" strike="noStrike">
                      <a:solidFill>
                        <a:srgbClr val="000080"/>
                      </a:solidFill>
                      <a:latin typeface="Arial"/>
                    </a:rPr>
                    <a:t>Integration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216000" indent="-216000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    </a:t>
                  </a: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(</a:t>
                  </a:r>
                  <a:r>
                    <a:rPr b="0" lang="en-US" sz="3600" spc="-1" strike="noStrike">
                      <a:solidFill>
                        <a:srgbClr val="000080"/>
                      </a:solidFill>
                      <a:latin typeface="Arial"/>
                    </a:rPr>
                    <a:t>one 3-D model )</a:t>
                  </a:r>
                  <a:r>
                    <a:rPr b="0" lang="en-US" sz="4400" spc="-1" strike="noStrike">
                      <a:solidFill>
                        <a:srgbClr val="000080"/>
                      </a:solidFill>
                      <a:latin typeface="Arial"/>
                    </a:rPr>
                    <a:t> 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49960" y="33882120"/>
                  <a:ext cx="4245120" cy="5168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4" name=""/>
            <p:cNvGrpSpPr/>
            <p:nvPr/>
          </p:nvGrpSpPr>
          <p:grpSpPr>
            <a:xfrm>
              <a:off x="914400" y="17773560"/>
              <a:ext cx="11104560" cy="9990360"/>
              <a:chOff x="914400" y="17773560"/>
              <a:chExt cx="11104560" cy="9990360"/>
            </a:xfrm>
          </p:grpSpPr>
          <p:sp>
            <p:nvSpPr>
              <p:cNvPr id="65" name=""/>
              <p:cNvSpPr/>
              <p:nvPr/>
            </p:nvSpPr>
            <p:spPr>
              <a:xfrm>
                <a:off x="914400" y="17983080"/>
                <a:ext cx="736452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80"/>
                    </a:solidFill>
                    <a:latin typeface="Charter"/>
                  </a:rPr>
                  <a:t>1. The Method  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88200" y="20253240"/>
                <a:ext cx="450072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216000" indent="-21600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80"/>
                    </a:solidFill>
                    <a:latin typeface="Arial"/>
                  </a:rPr>
                  <a:t>The mobile robot gathers range and  intensity data from different locations and vantage poin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19507320"/>
                <a:ext cx="5881680" cy="403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15520" y="17773560"/>
                <a:ext cx="1603440" cy="213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" name=""/>
              <p:cNvGrpSpPr/>
              <p:nvPr/>
            </p:nvGrpSpPr>
            <p:grpSpPr>
              <a:xfrm>
                <a:off x="1219320" y="24079320"/>
                <a:ext cx="10470960" cy="3684600"/>
                <a:chOff x="1219320" y="24079320"/>
                <a:chExt cx="10470960" cy="3684600"/>
              </a:xfrm>
            </p:grpSpPr>
            <p:pic>
              <p:nvPicPr>
                <p:cNvPr id="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588000" y="24079320"/>
                  <a:ext cx="5102280" cy="368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1219320" y="25161840"/>
                  <a:ext cx="5040000" cy="97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80"/>
                      </a:solidFill>
                      <a:latin typeface="Arial"/>
                    </a:rPr>
                    <a:t>Intensity data partly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80"/>
                      </a:solidFill>
                      <a:latin typeface="Arial"/>
                    </a:rPr>
                    <a:t>overlaps with range da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" name=""/>
          <p:cNvGrpSpPr/>
          <p:nvPr/>
        </p:nvGrpSpPr>
        <p:grpSpPr>
          <a:xfrm>
            <a:off x="31540320" y="6172200"/>
            <a:ext cx="10733040" cy="20419920"/>
            <a:chOff x="31540320" y="6172200"/>
            <a:chExt cx="10733040" cy="20419920"/>
          </a:xfrm>
        </p:grpSpPr>
        <p:sp>
          <p:nvSpPr>
            <p:cNvPr id="73" name=""/>
            <p:cNvSpPr/>
            <p:nvPr/>
          </p:nvSpPr>
          <p:spPr>
            <a:xfrm>
              <a:off x="31540320" y="6172200"/>
              <a:ext cx="10733040" cy="20419920"/>
            </a:xfrm>
            <a:custGeom>
              <a:avLst/>
              <a:gdLst>
                <a:gd name="textAreaLeft" fmla="*/ 360 w 10733040"/>
                <a:gd name="textAreaRight" fmla="*/ 10732680 w 10733040"/>
                <a:gd name="textAreaTop" fmla="*/ 360 h 20419920"/>
                <a:gd name="textAreaBottom" fmla="*/ 20419560 h 20419920"/>
              </a:gdLst>
              <a:ahLst/>
              <a:rect l="textAreaLeft" t="textAreaTop" r="textAreaRight" b="textAreaBottom"/>
              <a:pathLst>
                <a:path w="21600" h="41094">
                  <a:moveTo>
                    <a:pt x="3" y="0"/>
                  </a:moveTo>
                  <a:arcTo wR="3" hR="3" stAng="16200000" swAng="-5400000"/>
                  <a:lnTo>
                    <a:pt x="0" y="41091"/>
                  </a:lnTo>
                  <a:arcTo wR="3" hR="3" stAng="10800000" swAng="-5400000"/>
                  <a:lnTo>
                    <a:pt x="21597" y="41094"/>
                  </a:lnTo>
                  <a:arcTo wR="3" hR="3" stAng="5400000" swAng="-5400000"/>
                  <a:lnTo>
                    <a:pt x="21600" y="3"/>
                  </a:lnTo>
                  <a:arcTo wR="3" hR="3" stAng="0" swAng="-5400000"/>
                  <a:close/>
                </a:path>
              </a:pathLst>
            </a:custGeom>
            <a:solidFill>
              <a:srgbClr val="ffffcc"/>
            </a:solidFill>
            <a:ln w="73080">
              <a:solidFill>
                <a:srgbClr val="000080"/>
              </a:solidFill>
              <a:miter/>
            </a:ln>
            <a:effectLst>
              <a:outerShdw dist="646578" dir="2700000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822920" y="6583320"/>
              <a:ext cx="5929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80"/>
                  </a:solidFill>
                  <a:latin typeface="Charter"/>
                </a:rPr>
                <a:t>3. Integration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61640" y="6939000"/>
              <a:ext cx="340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80"/>
                  </a:solidFill>
                  <a:latin typeface="Arial"/>
                </a:rPr>
                <a:t>(Ongoing work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1891320" y="8248680"/>
              <a:ext cx="9421920" cy="6570000"/>
              <a:chOff x="31891320" y="8248680"/>
              <a:chExt cx="9421920" cy="6570000"/>
            </a:xfrm>
          </p:grpSpPr>
          <p:sp>
            <p:nvSpPr>
              <p:cNvPr id="77" name=""/>
              <p:cNvSpPr/>
              <p:nvPr/>
            </p:nvSpPr>
            <p:spPr>
              <a:xfrm>
                <a:off x="31891320" y="8248680"/>
                <a:ext cx="9115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buSzPct val="118335"/>
                  <a:buBlip>
                    <a:blip r:embed="rId8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80"/>
                    </a:solidFill>
                    <a:latin typeface="Arial"/>
                  </a:rPr>
                  <a:t>Estimation of range and/or intensity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2556600" y="9105840"/>
                <a:ext cx="8399160" cy="3446640"/>
                <a:chOff x="32556600" y="9105840"/>
                <a:chExt cx="8399160" cy="3446640"/>
              </a:xfrm>
            </p:grpSpPr>
            <p:pic>
              <p:nvPicPr>
                <p:cNvPr id="7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2556600" y="9105840"/>
                  <a:ext cx="3522600" cy="3446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7585800" y="9105840"/>
                  <a:ext cx="3369960" cy="344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36347400" y="10820520"/>
                  <a:ext cx="895320" cy="0"/>
                </a:xfrm>
                <a:prstGeom prst="line">
                  <a:avLst/>
                </a:prstGeom>
                <a:ln w="73080">
                  <a:solidFill>
                    <a:srgbClr val="000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32197680" y="12974760"/>
                <a:ext cx="9115560" cy="18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buSzPct val="100000"/>
                  <a:buBlip>
                    <a:blip r:embed="rId11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The algorithm starts by growing the overlapping reg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using information from neighbouring images.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SzPct val="100000"/>
                  <a:buBlip>
                    <a:blip r:embed="rId12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SzPct val="100000"/>
                  <a:buBlip>
                    <a:blip r:embed="rId13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New range and/or intensity values are generated pixel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by pixel , local similarity is preserved .           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1969080" y="15868800"/>
              <a:ext cx="10055160" cy="4551120"/>
              <a:chOff x="31969080" y="15868800"/>
              <a:chExt cx="10055160" cy="4551120"/>
            </a:xfrm>
          </p:grpSpPr>
          <p:pic>
            <p:nvPicPr>
              <p:cNvPr id="8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2004000" y="16878240"/>
                <a:ext cx="3922560" cy="354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1969080" y="15868800"/>
                <a:ext cx="9115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buSzPct val="118335"/>
                  <a:buBlip>
                    <a:blip r:embed="rId15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80"/>
                    </a:solidFill>
                    <a:latin typeface="Arial"/>
                  </a:rPr>
                  <a:t>The Occupancy Grid Model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6312480" y="16860960"/>
                <a:ext cx="5711760" cy="341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marL="216000" indent="-216000">
                  <a:lnSpc>
                    <a:spcPct val="100000"/>
                  </a:lnSpc>
                  <a:buSzPct val="100000"/>
                  <a:buBlip>
                    <a:blip r:embed="rId16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It fuses intensity and range dat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16000" indent="-21600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into a common coordinate frame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16000" indent="-216000">
                  <a:lnSpc>
                    <a:spcPct val="100000"/>
                  </a:lnSpc>
                  <a:buSzPct val="100000"/>
                  <a:buBlip>
                    <a:blip r:embed="rId17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16000" indent="-216000">
                  <a:lnSpc>
                    <a:spcPct val="100000"/>
                  </a:lnSpc>
                  <a:buSzPct val="100000"/>
                  <a:buBlip>
                    <a:blip r:embed="rId18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Sensor data are projected to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16000" indent="-21600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corresponding grid locations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16000" indent="-216000">
                  <a:lnSpc>
                    <a:spcPct val="100000"/>
                  </a:lnSpc>
                  <a:buSzPct val="100000"/>
                  <a:buBlip>
                    <a:blip r:embed="rId19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16000" indent="-216000">
                  <a:lnSpc>
                    <a:spcPct val="100000"/>
                  </a:lnSpc>
                  <a:buSzPct val="100000"/>
                  <a:buBlip>
                    <a:blip r:embed="rId20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Ocupancy probabilities and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16000" indent="-216000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surface properties are assigned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31737240" y="21507480"/>
              <a:ext cx="10209240" cy="4246560"/>
              <a:chOff x="31737240" y="21507480"/>
              <a:chExt cx="10209240" cy="4246560"/>
            </a:xfrm>
          </p:grpSpPr>
          <p:pic>
            <p:nvPicPr>
              <p:cNvPr id="8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7109520" y="22326480"/>
                <a:ext cx="4836960" cy="342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1815000" y="21507480"/>
                <a:ext cx="9115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buSzPct val="123397"/>
                  <a:buBlip>
                    <a:blip r:embed="rId22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80"/>
                    </a:solidFill>
                    <a:latin typeface="Arial"/>
                  </a:rPr>
                  <a:t>Carving away inconsistent voxels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737240" y="22956840"/>
                <a:ext cx="5484960" cy="22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buSzPct val="100000"/>
                  <a:buBlip>
                    <a:blip r:embed="rId23"/>
                  </a:buBlip>
                  <a:tabLst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Each voxel is checked for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 </a:t>
                </a: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consistency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600" spc="-1" strike="noStrike">
                    <a:solidFill>
                      <a:srgbClr val="000080"/>
                    </a:solidFill>
                    <a:latin typeface="Arial"/>
                  </a:rPr>
                  <a:t>When vision rays and range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600" spc="-1" strike="noStrike">
                    <a:solidFill>
                      <a:srgbClr val="000080"/>
                    </a:solidFill>
                    <a:latin typeface="Arial"/>
                  </a:rPr>
                  <a:t>rays intersect, their  likelihoods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80"/>
                    </a:solidFill>
                    <a:latin typeface="Arial"/>
                  </a:rPr>
                  <a:t>    </a:t>
                </a:r>
                <a:r>
                  <a:rPr b="0" lang="en-US" sz="2600" spc="-1" strike="noStrike">
                    <a:solidFill>
                      <a:srgbClr val="000080"/>
                    </a:solidFill>
                    <a:latin typeface="Arial"/>
                  </a:rPr>
                  <a:t>influence one another.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13335120" y="6172200"/>
            <a:ext cx="17259120" cy="35188560"/>
            <a:chOff x="13335120" y="6172200"/>
            <a:chExt cx="17259120" cy="35188560"/>
          </a:xfrm>
        </p:grpSpPr>
        <p:sp>
          <p:nvSpPr>
            <p:cNvPr id="92" name=""/>
            <p:cNvSpPr/>
            <p:nvPr/>
          </p:nvSpPr>
          <p:spPr>
            <a:xfrm>
              <a:off x="13335120" y="6172200"/>
              <a:ext cx="17259120" cy="35188560"/>
            </a:xfrm>
            <a:custGeom>
              <a:avLst/>
              <a:gdLst/>
              <a:ahLst/>
              <a:rect l="l" t="t" r="r" b="b"/>
              <a:pathLst>
                <a:path w="21600" h="44038">
                  <a:moveTo>
                    <a:pt x="1" y="0"/>
                  </a:moveTo>
                  <a:arcTo wR="1" hR="1" stAng="16200000" swAng="-5400000"/>
                  <a:lnTo>
                    <a:pt x="0" y="44037"/>
                  </a:lnTo>
                  <a:arcTo wR="1" hR="1" stAng="10800000" swAng="-5400000"/>
                  <a:lnTo>
                    <a:pt x="21599" y="44038"/>
                  </a:lnTo>
                  <a:arcTo wR="1" hR="1" stAng="5400000" swAng="-5400000"/>
                  <a:lnTo>
                    <a:pt x="21600" y="1"/>
                  </a:lnTo>
                  <a:arcTo wR="1" hR="1" stAng="0" swAng="-5400000"/>
                  <a:close/>
                </a:path>
              </a:pathLst>
            </a:custGeom>
            <a:solidFill>
              <a:srgbClr val="ffffcc"/>
            </a:solidFill>
            <a:ln w="73080">
              <a:solidFill>
                <a:srgbClr val="003399"/>
              </a:solidFill>
              <a:miter/>
            </a:ln>
            <a:effectLst>
              <a:outerShdw dist="646578" dir="2700000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971600" y="6423120"/>
              <a:ext cx="14274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</a:tabLst>
              </a:pPr>
              <a:r>
                <a:rPr b="1" lang="en-US" sz="6600" spc="-1" strike="noStrike">
                  <a:solidFill>
                    <a:srgbClr val="000080"/>
                  </a:solidFill>
                  <a:latin typeface="Charter"/>
                </a:rPr>
                <a:t>2. Registration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585760" y="8217000"/>
              <a:ext cx="13772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The positions and viewpoints where the intensity and range images are acquire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4457240" y="13598640"/>
              <a:ext cx="14159880" cy="4599000"/>
              <a:chOff x="14457240" y="13598640"/>
              <a:chExt cx="14159880" cy="45990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14457240" y="13598640"/>
                <a:ext cx="14047200" cy="4105080"/>
                <a:chOff x="14457240" y="13598640"/>
                <a:chExt cx="14047200" cy="410508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14457240" y="13598640"/>
                  <a:ext cx="14047200" cy="3314160"/>
                  <a:chOff x="14457240" y="13598640"/>
                  <a:chExt cx="14047200" cy="3314160"/>
                </a:xfrm>
              </p:grpSpPr>
              <p:pic>
                <p:nvPicPr>
                  <p:cNvPr id="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881280" y="13606200"/>
                    <a:ext cx="332244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4457240" y="13598640"/>
                    <a:ext cx="33494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026480" y="13628520"/>
                    <a:ext cx="347796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01" name=""/>
                <p:cNvSpPr/>
                <p:nvPr/>
              </p:nvSpPr>
              <p:spPr>
                <a:xfrm>
                  <a:off x="25853760" y="17276760"/>
                  <a:ext cx="2358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80"/>
                      </a:solidFill>
                      <a:latin typeface="Arial"/>
                    </a:rPr>
                    <a:t>Range view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7168400" y="17203680"/>
                  <a:ext cx="2984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80"/>
                      </a:solidFill>
                      <a:latin typeface="Arial"/>
                    </a:rPr>
                    <a:t>Intensity  view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 flipH="1">
                <a:off x="24659280" y="16878240"/>
                <a:ext cx="1098360" cy="131940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664920" y="16837200"/>
                <a:ext cx="952200" cy="131904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482920" y="16837200"/>
                <a:ext cx="0" cy="124452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087320" y="16837200"/>
                <a:ext cx="0" cy="124452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4384160" y="18100800"/>
              <a:ext cx="7600320" cy="5037120"/>
              <a:chOff x="14384160" y="18100800"/>
              <a:chExt cx="7600320" cy="5037120"/>
            </a:xfrm>
          </p:grpSpPr>
          <p:pic>
            <p:nvPicPr>
              <p:cNvPr id="10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4384160" y="18100800"/>
                <a:ext cx="3349440" cy="31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8706680" y="18100800"/>
                <a:ext cx="3277800" cy="31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6509600" y="21852000"/>
                <a:ext cx="3863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2-D Edge detect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392560" y="21232800"/>
                <a:ext cx="0" cy="190512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069680" y="21232800"/>
                <a:ext cx="0" cy="190512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2955040" y="18173880"/>
              <a:ext cx="7170120" cy="4964040"/>
              <a:chOff x="22955040" y="18173880"/>
              <a:chExt cx="7170120" cy="4964040"/>
            </a:xfrm>
          </p:grpSpPr>
          <p:sp>
            <p:nvSpPr>
              <p:cNvPr id="114" name=""/>
              <p:cNvSpPr/>
              <p:nvPr/>
            </p:nvSpPr>
            <p:spPr>
              <a:xfrm>
                <a:off x="24458040" y="21121920"/>
                <a:ext cx="0" cy="195876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642360" y="21412440"/>
                <a:ext cx="380808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Range view synthesi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80"/>
                    </a:solidFill>
                    <a:latin typeface="Arial"/>
                  </a:rPr>
                  <a:t>based on the intensity  viewposit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2955040" y="18173880"/>
                <a:ext cx="7170120" cy="3095640"/>
                <a:chOff x="22955040" y="18173880"/>
                <a:chExt cx="7170120" cy="3095640"/>
              </a:xfrm>
            </p:grpSpPr>
            <p:pic>
              <p:nvPicPr>
                <p:cNvPr id="117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2955040" y="18173880"/>
                  <a:ext cx="3051000" cy="30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6974440" y="18173880"/>
                  <a:ext cx="3150720" cy="301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9" name=""/>
              <p:cNvSpPr/>
              <p:nvPr/>
            </p:nvSpPr>
            <p:spPr>
              <a:xfrm>
                <a:off x="28544400" y="21178800"/>
                <a:ext cx="0" cy="195912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4258880" y="35037720"/>
              <a:ext cx="1540800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r>
                <a:rPr b="0" lang="en-US" sz="3600" spc="-1" strike="noStrike" u="sng">
                  <a:solidFill>
                    <a:srgbClr val="800000"/>
                  </a:solidFill>
                  <a:uFillTx/>
                  <a:latin typeface="Arial"/>
                </a:rPr>
                <a:t>Observations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SzPct val="80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How much overlapping should exist between range and intensity view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SzPct val="80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SzPct val="80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How many matchings of distances are enough for the registration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SzPct val="80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SzPct val="80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Difficult when few 3-D vertical edges are found in the range view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SzPct val="80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SzPct val="80000"/>
                <a:buFont typeface="Symbol" charset="2"/>
                <a:buChar char="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</a:tabLst>
              </a:pP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80"/>
                  </a:solidFill>
                  <a:latin typeface="Arial"/>
                </a:rPr>
                <a:t>Uncertainty in the robot pose must be considered due to odometry erro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4285880" y="28403640"/>
              <a:ext cx="15759720" cy="5292360"/>
              <a:chOff x="14285880" y="28403640"/>
              <a:chExt cx="15759720" cy="529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4285880" y="29322720"/>
                <a:ext cx="6822360" cy="4373280"/>
                <a:chOff x="14285880" y="29322720"/>
                <a:chExt cx="6822360" cy="4373280"/>
              </a:xfrm>
            </p:grpSpPr>
            <p:pic>
              <p:nvPicPr>
                <p:cNvPr id="123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7885880" y="29322720"/>
                  <a:ext cx="3222360" cy="3044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14285880" y="29324520"/>
                  <a:ext cx="3160440" cy="304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14899680" y="32842440"/>
                  <a:ext cx="518292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506736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80"/>
                      </a:solidFill>
                      <a:latin typeface="Arial"/>
                    </a:rPr>
                    <a:t>Matching of  distances from both intensity and range  view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2911840" y="28403640"/>
                <a:ext cx="7133760" cy="3840120"/>
                <a:chOff x="22911840" y="28403640"/>
                <a:chExt cx="7133760" cy="3840120"/>
              </a:xfrm>
            </p:grpSpPr>
            <p:pic>
              <p:nvPicPr>
                <p:cNvPr id="127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2911840" y="28403640"/>
                  <a:ext cx="3178080" cy="3085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26896320" y="28414800"/>
                  <a:ext cx="3149280" cy="312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23746680" y="31816800"/>
                  <a:ext cx="6006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5067360"/>
                      <a:tab algn="l" pos="579132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80"/>
                      </a:solidFill>
                      <a:latin typeface="Arial"/>
                    </a:rPr>
                    <a:t>Vertical lines extracted using P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 flipH="1">
                <a:off x="21305160" y="30365640"/>
                <a:ext cx="1294920" cy="0"/>
              </a:xfrm>
              <a:prstGeom prst="line">
                <a:avLst/>
              </a:prstGeom>
              <a:ln w="254160">
                <a:solidFill>
                  <a:srgbClr val="002d8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4512680" y="23088600"/>
              <a:ext cx="15825240" cy="5676840"/>
              <a:chOff x="14512680" y="23088600"/>
              <a:chExt cx="15825240" cy="567684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4512680" y="23088600"/>
                <a:ext cx="15825240" cy="4379400"/>
                <a:chOff x="14512680" y="23088600"/>
                <a:chExt cx="15825240" cy="437940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14512680" y="23137920"/>
                  <a:ext cx="3195360" cy="307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18752760" y="23137920"/>
                  <a:ext cx="3231720" cy="307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5" name=""/>
                <p:cNvGrpSpPr/>
                <p:nvPr/>
              </p:nvGrpSpPr>
              <p:grpSpPr>
                <a:xfrm>
                  <a:off x="22957920" y="23088600"/>
                  <a:ext cx="7380000" cy="4379400"/>
                  <a:chOff x="22957920" y="23088600"/>
                  <a:chExt cx="7380000" cy="4379400"/>
                </a:xfrm>
              </p:grpSpPr>
              <p:pic>
                <p:nvPicPr>
                  <p:cNvPr id="136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3011560" y="23088600"/>
                    <a:ext cx="311580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982000" y="23125320"/>
                    <a:ext cx="306360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" name=""/>
                  <p:cNvSpPr/>
                  <p:nvPr/>
                </p:nvSpPr>
                <p:spPr>
                  <a:xfrm>
                    <a:off x="22957920" y="26614440"/>
                    <a:ext cx="7380000" cy="853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4343400"/>
                        <a:tab algn="l" pos="5067360"/>
                        <a:tab algn="l" pos="5791320"/>
                        <a:tab algn="l" pos="6515280"/>
                        <a:tab algn="l" pos="723888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80"/>
                        </a:solidFill>
                        <a:latin typeface="Arial"/>
                      </a:rPr>
                      <a:t>Planar segmentation to extract 3-D Edges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723960"/>
                        <a:tab algn="l" pos="1447920"/>
                        <a:tab algn="l" pos="2171880"/>
                        <a:tab algn="l" pos="2895480"/>
                        <a:tab algn="l" pos="3619440"/>
                        <a:tab algn="l" pos="4343400"/>
                        <a:tab algn="l" pos="5067360"/>
                        <a:tab algn="l" pos="5791320"/>
                        <a:tab algn="l" pos="6515280"/>
                        <a:tab algn="l" pos="723888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80"/>
                        </a:solidFill>
                        <a:latin typeface="Arial"/>
                      </a:rPr>
                      <a:t>( region growing and surface normal analysis)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" name=""/>
                <p:cNvSpPr/>
                <p:nvPr/>
              </p:nvSpPr>
              <p:spPr>
                <a:xfrm>
                  <a:off x="15265080" y="26541360"/>
                  <a:ext cx="591444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23960"/>
                      <a:tab algn="l" pos="1447920"/>
                      <a:tab algn="l" pos="2171880"/>
                      <a:tab algn="l" pos="2895480"/>
                      <a:tab algn="l" pos="3619440"/>
                      <a:tab algn="l" pos="4343400"/>
                      <a:tab algn="l" pos="5067360"/>
                      <a:tab algn="l" pos="579132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80"/>
                      </a:solidFill>
                      <a:latin typeface="Arial"/>
                    </a:rPr>
                    <a:t>Vertical lines extracted using PCA and distances between lines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28468080" y="26250840"/>
                <a:ext cx="0" cy="2198880"/>
              </a:xfrm>
              <a:prstGeom prst="line">
                <a:avLst/>
              </a:prstGeom>
              <a:ln cap="rnd" w="63360">
                <a:solidFill>
                  <a:srgbClr val="000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952480" y="27622440"/>
                <a:ext cx="0" cy="1143000"/>
              </a:xfrm>
              <a:prstGeom prst="line">
                <a:avLst/>
              </a:prstGeom>
              <a:ln w="228600">
                <a:solidFill>
                  <a:srgbClr val="002d8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581880" y="26250840"/>
                <a:ext cx="0" cy="2198880"/>
              </a:xfrm>
              <a:prstGeom prst="line">
                <a:avLst/>
              </a:prstGeom>
              <a:ln cap="rnd" w="63360">
                <a:solidFill>
                  <a:srgbClr val="00008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4438160" y="9068040"/>
              <a:ext cx="14031360" cy="4559040"/>
              <a:chOff x="14438160" y="9068040"/>
              <a:chExt cx="14031360" cy="45590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4438160" y="9068040"/>
                <a:ext cx="14031360" cy="3516120"/>
                <a:chOff x="14438160" y="9068040"/>
                <a:chExt cx="14031360" cy="351612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14438160" y="9078840"/>
                  <a:ext cx="3369960" cy="3468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18822600" y="9078840"/>
                  <a:ext cx="3344400" cy="3505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24937560" y="9068040"/>
                  <a:ext cx="3531960" cy="3460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8" name=""/>
              <p:cNvSpPr/>
              <p:nvPr/>
            </p:nvSpPr>
            <p:spPr>
              <a:xfrm>
                <a:off x="26747280" y="12511080"/>
                <a:ext cx="18720" cy="102564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065000" y="12531960"/>
                <a:ext cx="18720" cy="102708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543400" y="12534840"/>
                <a:ext cx="0" cy="1092240"/>
              </a:xfrm>
              <a:prstGeom prst="line">
                <a:avLst/>
              </a:prstGeom>
              <a:ln w="73080">
                <a:solidFill>
                  <a:srgbClr val="00008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4:55:00Z</dcterms:created>
  <dc:creator/>
  <dc:description/>
  <dc:language>en-US</dc:language>
  <cp:lastModifiedBy>Guest</cp:lastModifiedBy>
  <dcterms:modified xsi:type="dcterms:W3CDTF">2001-05-30T20:36:33Z</dcterms:modified>
  <cp:revision>13</cp:revision>
  <dc:subject/>
  <dc:title>Aucun titre de diapositive</dc:title>
</cp:coreProperties>
</file>